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6D8-7BCF-4469-B6CF-65E108C7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0C8-0F91-4942-9846-F1F6539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F4F-3EB0-4838-A879-E8C78B40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B0-25B4-4528-97DC-996036CD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037-31A9-4D3A-A37B-C76E14CD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0D1C-8B10-44C4-A04A-94832F7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4B2-308A-43EC-B7DB-CE460228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250A-F12B-49B3-BEE5-3AA2744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097-16EF-4C30-A40D-FA7E0CB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7BBA-1E1A-4A1A-AC0F-F663ED5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CF4-8085-44DD-A8D7-0B4DF6F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F60-6B7F-414C-B3DE-623E0C4F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B926-31F1-45D8-874F-236203A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068C-A0A8-45CA-9CDF-4CA27FD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6D97-6B45-4F05-A96A-6713451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DBDA-E644-4554-8D8F-55AC191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441-77C5-4897-8C3B-5AE4AD96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192-B080-4F1A-AF06-C37BBCD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9B0-2B4B-411F-BE6E-368F30A9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104-4F2E-4418-ABFF-47881F8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AA-238A-4075-B926-96354EA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A2E-2287-4C70-AA1D-4A5DCBDB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B9B-031C-45B4-B578-FF68F7C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733-F6C8-4E17-98EB-8C1D4BA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38A5-6E23-4436-AC15-30495906DE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1FB-FCB9-40E8-A0D9-5BBF93123F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 TOUCH  THE  FUTUR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7520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  DRIVE  A  SCHOOL  BU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527280" cy="331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6524640"/>
            <a:ext cx="92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JOINT INITIATIVE BETWEEN LAND TRANSPORT NZ AND NZ POLI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7628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692280"/>
            <a:ext cx="46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907920"/>
            <a:ext cx="46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112392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4560" y="133992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0200" y="15559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6200" y="1771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987560"/>
            <a:ext cx="46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1987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8200" y="2203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19890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3840" y="24192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635200"/>
            <a:ext cx="62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500280"/>
            <a:ext cx="40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09840" y="263520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5840" y="285120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303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pts such as responsibility and loyal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not be taught directly like Math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. They must be learned from some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 students respec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35640" y="407664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Awar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definite of what you want and stick to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ain calm at all ti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y polite at all times even this may be difficult on occa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your expectations clear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y any possible misunderstand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how the student’s behaviour is not meeting your expect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what will happen if the behaviour contin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use to be distracted from the issue.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personalize the action, by making it quite clear that it is the student who is forcing you to write a report, rather than it being a personal attack by you on th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y and sound rather sad or disappointed about having to write this behaviour report.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use the ‘I’ statement and focus on the behaviou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716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’m sure you feel bad about this. Now you know what not to do next time.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highly specific when talking about the behaviou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student a choice— (name) you have a choice You must remain seated (specific) because of safety issues for yourself and others or I will put in a report to your schoo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ver debate issues with student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y to be as confidential as possible when reprimanding a stud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rase of the day:  ‘What do you suppose you could  have done differently’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for opportunities to say something positive before the student leaves the bus. “ (name) I cannot accept that behaviour on the bus as you may put the safety of everyone at risk therefore I still need to file a report. However since my request your actions have been excellent and I thank you for it. I will also mention that in the report. I want you on my bus but I don’t want that behaviou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“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ity: the feeling of being worthwhile “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calm, polite and consistent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calm. It is difficult to argue with a person who is calm, assertive and confi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pol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fair and consistent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rget the behaviour NOT the child. There is no place for sarcasm or demeaning the child in any w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reflection time to the student causing concern. State your expectation then give them sp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mness, being consistent and fair, reduces/eliminates confrontation and helps build feelings of trust, security and a sense of well being on this b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udent’s hearing is not ve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in the heat of conflict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07664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ive them structur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 the Code of Conduct as set down by the Ministry of Education; School and Road Cod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organized. Have set routines Who gets on the bus first-the youngest children . Etc. Patterns become automatically form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ve the code available and show the student what part of the code that is being brok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very important way you interact with your students. Firm but fai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ing students aware they have/are meeting your expectations .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im for high standards and expect students to meet them. The students will strive to meet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way they will leave your bus with a positive sense of success, and will be more likely to behave and enjoy the rid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rase of the day: “Thank you for being 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nderful/responsible/happy/super/polite person on my bus today. I look forward to seeing you tomorro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Positiv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et/say farewell to every student as they get on/off your b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 their names. Knowing their names is a very strong controlling factor as well as an essential ingredient for building positive relationshi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ide on what you want the students to call yo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expect the best from your students rather anticipating the wors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ame everything you say in a positive ligh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tience is the ability to idle your mo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feel like stripping your gears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411280" cy="273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cognize every effort, however slight.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individual praise to encourage the accepted forms of behaviou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ke a personal interest in their activities. ‘I saw your name in the paper for-------‘ Well done. I am proud to have you on my bus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‘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ey its ------birthday today’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t targets and goals for students who have made a mistak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hance the students self este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ntion/write positive reports to the various schools. Schools like to acknowledge students who are doing the right thing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ldren are our most valuable natural resourc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 students and their individuality                   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a ‘family’ atmosphere where we all care for each other.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a sense of humour. Laugh with the students.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that your enjoy having them on your b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ROL  TECHNIQU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 us reflect on the techniques that have been mentione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pol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oid confront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 from the head not from emo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 your voice and t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student’s nam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non-verbal signals eg. Looking at the stud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ene early.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be calm and asser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them a choice. They chose to 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ga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use the ‘I’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36960" y="476280"/>
            <a:ext cx="2579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tting a good example for your passengers is twice as good as giving them good advic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positi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consis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ke an interest in the student’s activities.   Personalize your driv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ncourage accountability for their behaviour. Self control and self discipline is the go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romote the values of honesty/ fairness/ respect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THE STUD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do I decide what is right and what is wrong?: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 I breaking a rule.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does my conscience tell m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anyone be hurt if I do thi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I like someone to do this to m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it fair to everyone on this bu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would my parents tell me to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I feel proud of my decision/action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 I happy to put my name to this behaviour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I tell someone I respect what I have d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I like to see it on the front page of the newspap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88000" y="278136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US DRIVER STYLE- ‘FIRM BUT FAIR’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learn to behave through the application of consistent boundaries. Once learnt where the boundaries are, the students will follow them without being tol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yle creates a more relaxed atmosphere and is less stressful for everyone on boar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lk to th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ke each student feel there is something special about them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opportunity for fun, enjoyment and sh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real person’ Learn to personalize your dri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ry and make your students feel that you like them and you are interested in subjects that interest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no ‘problems’ on a bus only challenge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positive image through your physical personalit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face- students spend the majority of the time looking at your face. If your face is moving, smiling and relaxed but always alert, they will believe you are in-char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eyes.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voice-tones/assertiveness show students how confident and definite you are.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body. Standing proud gives off an air of confid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ldren have more need of models than critic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ess for success. A smart tidy appearance does lend to making a good impression and suggests you are proud of what you do and you take your role seriousl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/show a sense of humou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to see issues in a positive light- problems as challen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for the good in everyone and you will find it ten fol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what is going well. Often only a small number are causing concer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.The bus education programme that is taught at schoo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.Reporting processes and the procedures that follo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.Strategies for making the hard job of                             discipline and behaviour management on t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bus, easi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727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am confident that you will figure out the right thing to do in the futur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ise and thank students who are doing the right thing.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positive language- “Great to see you  (name)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an for good behaviour- manners/consistency/fairness/greetings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eople who make a difference in your life are not the ones with the most credentials, the most money or the most awards. They are the ones that care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Thought                Positive Thou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Emotion                Positive 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Action                   Positive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213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3284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869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350028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716200" cy="11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56000" y="299736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653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2997360"/>
            <a:ext cx="144720" cy="617400"/>
          </a:xfrm>
          <a:prstGeom prst="downArrow">
            <a:avLst>
              <a:gd name="adj1" fmla="val 50000"/>
              <a:gd name="adj2" fmla="val 10665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00" y="465300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MINAR FACILITATO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RRAY   BI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dSense Facilitator-Tau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ing N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REW CAMPB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ice Education Off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u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32720" y="400536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Your biggest challenge may be to find something good in every student. Rise to that challenge, and you and the student will both win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3097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56360" y="530064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atient with your student passeng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takes a lot of slow to grow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children misbeha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er pressu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ck of self discipline skil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 self este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ability to relate to their peer grou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or no behaviour boundaries established in the home. 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mixed standards and therefore no adult role mod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ol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tantly seeking attention. Evan negative attention is better than being left in a vacu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y students don’t have the social skills to say how they are feel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chool bus driver can affect eternity;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one can tell where his/her influence st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 Management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call these the  HI  5s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definite----“I know what I wa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aware   ----“I know the steps to take should I need to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calm, consistent and polite--- factors that calm situ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students structure and choice---I know where we 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ing.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positive. Look for the good in everyone and say someth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 management – High 5’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8000" cy="534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24720" y="22510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a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429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m struc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49480" y="544500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ntuate the po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700280"/>
            <a:ext cx="2243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defin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3068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fair and consis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5734080"/>
            <a:ext cx="23050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definit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now what you want to achieve. Knowing exactly what you want allows you to communicate an air of confidence- no room for debate/ conflic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 assertive in a positive way.  Voice tone is important-strong sounding but moderate to soft volume leve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ve a Code of Conduct sheet available and refer to it if requir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the ‘I’ statement- never ‘You’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cus on the behaviour not the stud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 positive in your actions and outlook. Look for the good in everyone and say someth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1:31:16Z</dcterms:created>
  <dc:creator>Educating NZ</dc:creator>
  <dc:description/>
  <dc:language>en-US</dc:language>
  <cp:lastModifiedBy>Educating NZ</cp:lastModifiedBy>
  <dcterms:modified xsi:type="dcterms:W3CDTF">2007-12-13T00:52:10Z</dcterms:modified>
  <cp:revision>65</cp:revision>
  <dc:subject/>
  <dc:title>Slide 1</dc:title>
</cp:coreProperties>
</file>